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新細明體"/>
              </a:rPr>
              <a:t>Click to move the slide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0639-10F7-4262-A2EE-A17683883FD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3A4A-3430-451A-8AC2-E9E4D38BC85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B64D-85F4-4088-B0A9-2561AB7397B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96F2-FAB7-4893-806A-6F2738D3D06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680F-1550-47DF-8DDC-E397CF3386D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9E80-A2B0-45EE-8EDD-1EAFB8FA1A7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9471-D230-4DCD-8981-76596C27376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3D0D-6278-41F3-93B3-DBBCAF5D3F5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5510160" y="659376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V 03.02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28000" y="64900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Slide </a:t>
            </a:r>
            <a:fld id="{AF6D7283-E51A-45D4-99F2-361E645B7935}" type="slidenum">
              <a:rPr b="0" lang="en-US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5510160" y="659376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版本</a:t>
            </a:r>
            <a:r>
              <a:rPr b="0" lang="zh-TW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：</a:t>
            </a:r>
            <a:r>
              <a:rPr b="0" lang="zh-TW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028000" y="64900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頁碼</a:t>
            </a:r>
            <a:fld id="{557BE30E-930C-4DF1-95D6-B7C65C4D0307}" type="slidenum">
              <a:rPr b="0" lang="zh-TW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327360"/>
            <a:ext cx="9144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新細明體"/>
              </a:rPr>
              <a:t>財務管理及策劃</a:t>
            </a:r>
            <a:r>
              <a:rPr b="0" lang="zh-TW" sz="200" spc="-1" strike="noStrike">
                <a:solidFill>
                  <a:srgbClr val="ffffff"/>
                </a:solidFill>
                <a:latin typeface="新細明體"/>
              </a:rPr>
              <a:t>/</a:t>
            </a:r>
            <a:r>
              <a:rPr b="0" lang="zh-CN" sz="200" spc="-1" strike="noStrike">
                <a:solidFill>
                  <a:srgbClr val="ffffff"/>
                </a:solidFill>
                <a:latin typeface="新細明體"/>
              </a:rPr>
              <a:t>職員成本</a:t>
            </a:r>
            <a:endParaRPr b="0" lang="en-US" sz="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新細明體"/>
                <a:ea typeface="新細明體"/>
              </a:rPr>
              <a:t>	</a:t>
            </a:r>
            <a:r>
              <a:rPr b="1" lang="zh-TW" sz="2400" spc="-1" strike="noStrike">
                <a:solidFill>
                  <a:srgbClr val="0000cc"/>
                </a:solidFill>
                <a:latin typeface="Times New Roman"/>
                <a:ea typeface="新細明體"/>
              </a:rPr>
              <a:t>財務管理及策劃－職員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1676520" y="1981080"/>
            <a:ext cx="5333760" cy="190512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867960" y="1270080"/>
            <a:ext cx="546480" cy="1024920"/>
            <a:chOff x="867960" y="1270080"/>
            <a:chExt cx="546480" cy="1024920"/>
          </a:xfrm>
        </p:grpSpPr>
        <p:sp>
          <p:nvSpPr>
            <p:cNvPr id="53" name="Text Box 7"/>
            <p:cNvSpPr/>
            <p:nvPr/>
          </p:nvSpPr>
          <p:spPr>
            <a:xfrm>
              <a:off x="867960" y="1270080"/>
              <a:ext cx="546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會計文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8"/>
            <p:cNvGrpSpPr/>
            <p:nvPr/>
          </p:nvGrpSpPr>
          <p:grpSpPr>
            <a:xfrm>
              <a:off x="1013040" y="1700280"/>
              <a:ext cx="237960" cy="594720"/>
              <a:chOff x="1013040" y="1700280"/>
              <a:chExt cx="237960" cy="594720"/>
            </a:xfrm>
          </p:grpSpPr>
          <p:sp>
            <p:nvSpPr>
              <p:cNvPr id="55" name="Oval 9"/>
              <p:cNvSpPr/>
              <p:nvPr/>
            </p:nvSpPr>
            <p:spPr>
              <a:xfrm>
                <a:off x="1013040" y="170028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0"/>
              <p:cNvSpPr/>
              <p:nvPr/>
            </p:nvSpPr>
            <p:spPr>
              <a:xfrm flipH="1">
                <a:off x="1013040" y="193788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1"/>
              <p:cNvSpPr/>
              <p:nvPr/>
            </p:nvSpPr>
            <p:spPr>
              <a:xfrm flipH="1">
                <a:off x="1013040" y="217620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2"/>
              <p:cNvSpPr/>
              <p:nvPr/>
            </p:nvSpPr>
            <p:spPr>
              <a:xfrm>
                <a:off x="1131840" y="193788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3"/>
              <p:cNvSpPr/>
              <p:nvPr/>
            </p:nvSpPr>
            <p:spPr>
              <a:xfrm>
                <a:off x="1131840" y="193788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4"/>
              <p:cNvSpPr/>
              <p:nvPr/>
            </p:nvSpPr>
            <p:spPr>
              <a:xfrm>
                <a:off x="1131840" y="217620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508680" y="2997360"/>
            <a:ext cx="363600" cy="835200"/>
            <a:chOff x="508680" y="2997360"/>
            <a:chExt cx="363600" cy="835200"/>
          </a:xfrm>
        </p:grpSpPr>
        <p:sp>
          <p:nvSpPr>
            <p:cNvPr id="62" name="Text Box 17"/>
            <p:cNvSpPr/>
            <p:nvPr/>
          </p:nvSpPr>
          <p:spPr>
            <a:xfrm>
              <a:off x="508680" y="355608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校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18"/>
            <p:cNvGrpSpPr/>
            <p:nvPr/>
          </p:nvGrpSpPr>
          <p:grpSpPr>
            <a:xfrm>
              <a:off x="565200" y="2997360"/>
              <a:ext cx="237960" cy="595440"/>
              <a:chOff x="565200" y="2997360"/>
              <a:chExt cx="237960" cy="595440"/>
            </a:xfrm>
          </p:grpSpPr>
          <p:sp>
            <p:nvSpPr>
              <p:cNvPr id="64" name="Oval 19"/>
              <p:cNvSpPr/>
              <p:nvPr/>
            </p:nvSpPr>
            <p:spPr>
              <a:xfrm>
                <a:off x="565200" y="2997360"/>
                <a:ext cx="237960" cy="23796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0"/>
              <p:cNvSpPr/>
              <p:nvPr/>
            </p:nvSpPr>
            <p:spPr>
              <a:xfrm flipH="1">
                <a:off x="565200" y="3235320"/>
                <a:ext cx="118800" cy="119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1"/>
              <p:cNvSpPr/>
              <p:nvPr/>
            </p:nvSpPr>
            <p:spPr>
              <a:xfrm flipH="1">
                <a:off x="565200" y="3473640"/>
                <a:ext cx="118800" cy="119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22"/>
              <p:cNvSpPr/>
              <p:nvPr/>
            </p:nvSpPr>
            <p:spPr>
              <a:xfrm>
                <a:off x="684000" y="3235320"/>
                <a:ext cx="0" cy="23832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23"/>
              <p:cNvSpPr/>
              <p:nvPr/>
            </p:nvSpPr>
            <p:spPr>
              <a:xfrm>
                <a:off x="684000" y="3235320"/>
                <a:ext cx="119160" cy="119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24"/>
              <p:cNvSpPr/>
              <p:nvPr/>
            </p:nvSpPr>
            <p:spPr>
              <a:xfrm>
                <a:off x="684000" y="3473640"/>
                <a:ext cx="119160" cy="119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Rectangle 34"/>
          <p:cNvSpPr/>
          <p:nvPr/>
        </p:nvSpPr>
        <p:spPr>
          <a:xfrm>
            <a:off x="46080" y="657612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財務管理及策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7"/>
          <p:cNvGrpSpPr/>
          <p:nvPr/>
        </p:nvGrpSpPr>
        <p:grpSpPr>
          <a:xfrm>
            <a:off x="3632400" y="907920"/>
            <a:ext cx="4792320" cy="5313600"/>
            <a:chOff x="3632400" y="907920"/>
            <a:chExt cx="4792320" cy="5313600"/>
          </a:xfrm>
        </p:grpSpPr>
        <p:grpSp>
          <p:nvGrpSpPr>
            <p:cNvPr id="72" name="Group 36"/>
            <p:cNvGrpSpPr/>
            <p:nvPr/>
          </p:nvGrpSpPr>
          <p:grpSpPr>
            <a:xfrm>
              <a:off x="6184440" y="907920"/>
              <a:ext cx="609840" cy="1076760"/>
              <a:chOff x="6184440" y="907920"/>
              <a:chExt cx="609840" cy="1076760"/>
            </a:xfrm>
          </p:grpSpPr>
          <p:grpSp>
            <p:nvGrpSpPr>
              <p:cNvPr id="73" name="Group 37"/>
              <p:cNvGrpSpPr/>
              <p:nvPr/>
            </p:nvGrpSpPr>
            <p:grpSpPr>
              <a:xfrm>
                <a:off x="6184440" y="907920"/>
                <a:ext cx="609840" cy="609480"/>
                <a:chOff x="6184440" y="907920"/>
                <a:chExt cx="609840" cy="609480"/>
              </a:xfrm>
            </p:grpSpPr>
            <p:sp>
              <p:nvSpPr>
                <p:cNvPr id="74" name="Line 38"/>
                <p:cNvSpPr/>
                <p:nvPr/>
              </p:nvSpPr>
              <p:spPr>
                <a:xfrm flipH="1">
                  <a:off x="6184440" y="9079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39"/>
                <p:cNvSpPr/>
                <p:nvPr/>
              </p:nvSpPr>
              <p:spPr>
                <a:xfrm>
                  <a:off x="6261120" y="1136520"/>
                  <a:ext cx="7596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40"/>
                <p:cNvSpPr/>
                <p:nvPr/>
              </p:nvSpPr>
              <p:spPr>
                <a:xfrm flipH="1">
                  <a:off x="6642000" y="1136520"/>
                  <a:ext cx="7632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41"/>
                <p:cNvSpPr/>
                <p:nvPr/>
              </p:nvSpPr>
              <p:spPr>
                <a:xfrm>
                  <a:off x="6299280" y="1517400"/>
                  <a:ext cx="380880" cy="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42"/>
                <p:cNvSpPr/>
                <p:nvPr/>
              </p:nvSpPr>
              <p:spPr>
                <a:xfrm>
                  <a:off x="6489720" y="907920"/>
                  <a:ext cx="30456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Text Box 43"/>
              <p:cNvSpPr/>
              <p:nvPr/>
            </p:nvSpPr>
            <p:spPr>
              <a:xfrm>
                <a:off x="6309360" y="1525680"/>
                <a:ext cx="363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財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一般設定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44"/>
            <p:cNvSpPr/>
            <p:nvPr/>
          </p:nvSpPr>
          <p:spPr>
            <a:xfrm>
              <a:off x="7149240" y="236376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預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45"/>
            <p:cNvSpPr/>
            <p:nvPr/>
          </p:nvSpPr>
          <p:spPr>
            <a:xfrm>
              <a:off x="7911360" y="327816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簿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46"/>
            <p:cNvSpPr/>
            <p:nvPr/>
          </p:nvSpPr>
          <p:spPr>
            <a:xfrm>
              <a:off x="7086600" y="1600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47"/>
            <p:cNvSpPr/>
            <p:nvPr/>
          </p:nvSpPr>
          <p:spPr>
            <a:xfrm>
              <a:off x="7848720" y="2514600"/>
              <a:ext cx="57600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8"/>
            <p:cNvGrpSpPr/>
            <p:nvPr/>
          </p:nvGrpSpPr>
          <p:grpSpPr>
            <a:xfrm>
              <a:off x="7238520" y="3733920"/>
              <a:ext cx="995760" cy="962280"/>
              <a:chOff x="7238520" y="3733920"/>
              <a:chExt cx="995760" cy="962280"/>
            </a:xfrm>
          </p:grpSpPr>
          <p:sp>
            <p:nvSpPr>
              <p:cNvPr id="85" name="Text Box 49"/>
              <p:cNvSpPr/>
              <p:nvPr/>
            </p:nvSpPr>
            <p:spPr>
              <a:xfrm>
                <a:off x="7314840" y="4419720"/>
                <a:ext cx="91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職員成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" name="Group 50"/>
              <p:cNvGrpSpPr/>
              <p:nvPr/>
            </p:nvGrpSpPr>
            <p:grpSpPr>
              <a:xfrm>
                <a:off x="7238520" y="3733920"/>
                <a:ext cx="952560" cy="685440"/>
                <a:chOff x="7238520" y="3733920"/>
                <a:chExt cx="952560" cy="685440"/>
              </a:xfrm>
            </p:grpSpPr>
            <p:grpSp>
              <p:nvGrpSpPr>
                <p:cNvPr id="87" name="Group 51"/>
                <p:cNvGrpSpPr/>
                <p:nvPr/>
              </p:nvGrpSpPr>
              <p:grpSpPr>
                <a:xfrm>
                  <a:off x="7238520" y="3810240"/>
                  <a:ext cx="247680" cy="482040"/>
                  <a:chOff x="7238520" y="3810240"/>
                  <a:chExt cx="247680" cy="482040"/>
                </a:xfrm>
              </p:grpSpPr>
              <p:sp>
                <p:nvSpPr>
                  <p:cNvPr id="88" name="Oval 52"/>
                  <p:cNvSpPr/>
                  <p:nvPr/>
                </p:nvSpPr>
                <p:spPr>
                  <a:xfrm>
                    <a:off x="723888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Line 53"/>
                  <p:cNvSpPr/>
                  <p:nvPr/>
                </p:nvSpPr>
                <p:spPr>
                  <a:xfrm flipH="1">
                    <a:off x="723852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Line 54"/>
                  <p:cNvSpPr/>
                  <p:nvPr/>
                </p:nvSpPr>
                <p:spPr>
                  <a:xfrm flipH="1">
                    <a:off x="723852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55"/>
                  <p:cNvSpPr/>
                  <p:nvPr/>
                </p:nvSpPr>
                <p:spPr>
                  <a:xfrm>
                    <a:off x="736236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56"/>
                  <p:cNvSpPr/>
                  <p:nvPr/>
                </p:nvSpPr>
                <p:spPr>
                  <a:xfrm>
                    <a:off x="736236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Line 57"/>
                  <p:cNvSpPr/>
                  <p:nvPr/>
                </p:nvSpPr>
                <p:spPr>
                  <a:xfrm>
                    <a:off x="736236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Group 58"/>
                <p:cNvGrpSpPr/>
                <p:nvPr/>
              </p:nvGrpSpPr>
              <p:grpSpPr>
                <a:xfrm>
                  <a:off x="7714800" y="3733920"/>
                  <a:ext cx="247680" cy="482400"/>
                  <a:chOff x="7714800" y="3733920"/>
                  <a:chExt cx="247680" cy="482400"/>
                </a:xfrm>
              </p:grpSpPr>
              <p:sp>
                <p:nvSpPr>
                  <p:cNvPr id="95" name="Oval 59"/>
                  <p:cNvSpPr/>
                  <p:nvPr/>
                </p:nvSpPr>
                <p:spPr>
                  <a:xfrm>
                    <a:off x="7715160" y="373392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Line 60"/>
                  <p:cNvSpPr/>
                  <p:nvPr/>
                </p:nvSpPr>
                <p:spPr>
                  <a:xfrm flipH="1">
                    <a:off x="7714800" y="392652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Line 61"/>
                  <p:cNvSpPr/>
                  <p:nvPr/>
                </p:nvSpPr>
                <p:spPr>
                  <a:xfrm flipH="1">
                    <a:off x="7714800" y="4119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Line 62"/>
                  <p:cNvSpPr/>
                  <p:nvPr/>
                </p:nvSpPr>
                <p:spPr>
                  <a:xfrm>
                    <a:off x="7838640" y="392652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63"/>
                  <p:cNvSpPr/>
                  <p:nvPr/>
                </p:nvSpPr>
                <p:spPr>
                  <a:xfrm>
                    <a:off x="7838640" y="392652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64"/>
                  <p:cNvSpPr/>
                  <p:nvPr/>
                </p:nvSpPr>
                <p:spPr>
                  <a:xfrm>
                    <a:off x="7838640" y="4119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5"/>
                <p:cNvGrpSpPr/>
                <p:nvPr/>
              </p:nvGrpSpPr>
              <p:grpSpPr>
                <a:xfrm>
                  <a:off x="7943400" y="3810240"/>
                  <a:ext cx="247680" cy="482040"/>
                  <a:chOff x="7943400" y="3810240"/>
                  <a:chExt cx="247680" cy="482040"/>
                </a:xfrm>
              </p:grpSpPr>
              <p:sp>
                <p:nvSpPr>
                  <p:cNvPr id="102" name="Oval 66"/>
                  <p:cNvSpPr/>
                  <p:nvPr/>
                </p:nvSpPr>
                <p:spPr>
                  <a:xfrm>
                    <a:off x="794376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Line 67"/>
                  <p:cNvSpPr/>
                  <p:nvPr/>
                </p:nvSpPr>
                <p:spPr>
                  <a:xfrm flipH="1">
                    <a:off x="794340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Line 68"/>
                  <p:cNvSpPr/>
                  <p:nvPr/>
                </p:nvSpPr>
                <p:spPr>
                  <a:xfrm flipH="1">
                    <a:off x="794340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69"/>
                  <p:cNvSpPr/>
                  <p:nvPr/>
                </p:nvSpPr>
                <p:spPr>
                  <a:xfrm>
                    <a:off x="806724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70"/>
                  <p:cNvSpPr/>
                  <p:nvPr/>
                </p:nvSpPr>
                <p:spPr>
                  <a:xfrm>
                    <a:off x="806724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71"/>
                  <p:cNvSpPr/>
                  <p:nvPr/>
                </p:nvSpPr>
                <p:spPr>
                  <a:xfrm>
                    <a:off x="806724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72"/>
                <p:cNvGrpSpPr/>
                <p:nvPr/>
              </p:nvGrpSpPr>
              <p:grpSpPr>
                <a:xfrm>
                  <a:off x="7467120" y="3936960"/>
                  <a:ext cx="247680" cy="482400"/>
                  <a:chOff x="7467120" y="3936960"/>
                  <a:chExt cx="247680" cy="482400"/>
                </a:xfrm>
              </p:grpSpPr>
              <p:sp>
                <p:nvSpPr>
                  <p:cNvPr id="109" name="Oval 73"/>
                  <p:cNvSpPr/>
                  <p:nvPr/>
                </p:nvSpPr>
                <p:spPr>
                  <a:xfrm>
                    <a:off x="7467480" y="393696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74"/>
                  <p:cNvSpPr/>
                  <p:nvPr/>
                </p:nvSpPr>
                <p:spPr>
                  <a:xfrm flipH="1">
                    <a:off x="7467120" y="412956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75"/>
                  <p:cNvSpPr/>
                  <p:nvPr/>
                </p:nvSpPr>
                <p:spPr>
                  <a:xfrm flipH="1">
                    <a:off x="7467120" y="432288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76"/>
                  <p:cNvSpPr/>
                  <p:nvPr/>
                </p:nvSpPr>
                <p:spPr>
                  <a:xfrm>
                    <a:off x="7590960" y="412956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77"/>
                  <p:cNvSpPr/>
                  <p:nvPr/>
                </p:nvSpPr>
                <p:spPr>
                  <a:xfrm>
                    <a:off x="7590960" y="412956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78"/>
                  <p:cNvSpPr/>
                  <p:nvPr/>
                </p:nvSpPr>
                <p:spPr>
                  <a:xfrm>
                    <a:off x="7590960" y="432288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5" name="Text Box 79"/>
            <p:cNvSpPr/>
            <p:nvPr/>
          </p:nvSpPr>
          <p:spPr>
            <a:xfrm>
              <a:off x="6649560" y="54118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固定資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80"/>
            <p:cNvSpPr/>
            <p:nvPr/>
          </p:nvSpPr>
          <p:spPr>
            <a:xfrm>
              <a:off x="6675480" y="464832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81"/>
            <p:cNvSpPr/>
            <p:nvPr/>
          </p:nvSpPr>
          <p:spPr>
            <a:xfrm>
              <a:off x="5232600" y="594504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銷售及存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82"/>
            <p:cNvSpPr/>
            <p:nvPr/>
          </p:nvSpPr>
          <p:spPr>
            <a:xfrm>
              <a:off x="5303880" y="5181480"/>
              <a:ext cx="576360" cy="79236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83"/>
            <p:cNvSpPr/>
            <p:nvPr/>
          </p:nvSpPr>
          <p:spPr>
            <a:xfrm>
              <a:off x="3632400" y="579276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其它登記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84"/>
            <p:cNvSpPr/>
            <p:nvPr/>
          </p:nvSpPr>
          <p:spPr>
            <a:xfrm>
              <a:off x="3703680" y="5029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85"/>
          <p:cNvSpPr/>
          <p:nvPr/>
        </p:nvSpPr>
        <p:spPr>
          <a:xfrm>
            <a:off x="2133720" y="2590920"/>
            <a:ext cx="220968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設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職員檔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薪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公積金登記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稅務資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查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ff000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ff0000"/>
                </a:solidFill>
                <a:latin typeface="新細明體"/>
                <a:ea typeface="新細明體"/>
              </a:rPr>
              <a:t>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142" name="Text Box 1027"/>
          <p:cNvSpPr/>
          <p:nvPr/>
        </p:nvSpPr>
        <p:spPr>
          <a:xfrm>
            <a:off x="1050840" y="53352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宋体"/>
              </a:rPr>
              <a:t>職員成本 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宋体"/>
              </a:rPr>
              <a:t>- </a:t>
            </a:r>
            <a:r>
              <a:rPr b="1" lang="zh-TW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報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28"/>
          <p:cNvSpPr/>
          <p:nvPr/>
        </p:nvSpPr>
        <p:spPr>
          <a:xfrm>
            <a:off x="1143000" y="1523880"/>
            <a:ext cx="731520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報告可以在新開啟的檢視視窗產製或儲存報告到報告管理 </a:t>
            </a:r>
            <a:r>
              <a:rPr b="0" lang="zh-TW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—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存庫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可以產製 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PDF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，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WORD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，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ICHTEXT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及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EXCEL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四種報告格式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用戶可以更改已產製 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WORD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，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ICHTEXT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及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EXCEL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格式的報告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以下報告只可以產製 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PDF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格式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及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不可以更改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職員檔案清單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SC006-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僱主報稅表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IR56B) (R-FSC007-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經電腦規格填報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IR56B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的職員名單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SC008-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已過帳薪酬傳票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/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公積金傳票列表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SC014-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與教職員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/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教職員調配模組界面記錄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SC015-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職員改動一覽表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依薪酬月份分類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) (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SC021-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產生僱主報稅表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IR56B)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磁碟時出現教職員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/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代課老師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/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其他人士資料不全的錯漏表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SC025-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已刪除傳票列表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SC028-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產生報告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145" name="Rectangle 19"/>
          <p:cNvSpPr/>
          <p:nvPr/>
        </p:nvSpPr>
        <p:spPr>
          <a:xfrm>
            <a:off x="0" y="0"/>
            <a:ext cx="1219320" cy="1981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0" y="4343400"/>
            <a:ext cx="1219320" cy="228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8"/>
          <p:cNvGrpSpPr/>
          <p:nvPr/>
        </p:nvGrpSpPr>
        <p:grpSpPr>
          <a:xfrm>
            <a:off x="6019920" y="609480"/>
            <a:ext cx="2666880" cy="1600200"/>
            <a:chOff x="6019920" y="609480"/>
            <a:chExt cx="2666880" cy="1600200"/>
          </a:xfrm>
        </p:grpSpPr>
        <p:sp>
          <p:nvSpPr>
            <p:cNvPr id="148" name="AutoShape 29"/>
            <p:cNvSpPr/>
            <p:nvPr/>
          </p:nvSpPr>
          <p:spPr>
            <a:xfrm>
              <a:off x="6019920" y="609480"/>
              <a:ext cx="2666880" cy="16002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6019920" y="609480"/>
              <a:ext cx="26668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１步：按左邊項目選單中的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職員成本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    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32"/>
          <p:cNvSpPr/>
          <p:nvPr/>
        </p:nvSpPr>
        <p:spPr>
          <a:xfrm>
            <a:off x="0" y="0"/>
            <a:ext cx="15238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</a:t>
            </a: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製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3"/>
          <p:cNvSpPr/>
          <p:nvPr/>
        </p:nvSpPr>
        <p:spPr>
          <a:xfrm>
            <a:off x="0" y="0"/>
            <a:ext cx="1219320" cy="1981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產生報告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5867280" y="838080"/>
            <a:ext cx="2362320" cy="1143000"/>
            <a:chOff x="5867280" y="838080"/>
            <a:chExt cx="2362320" cy="1143000"/>
          </a:xfrm>
        </p:grpSpPr>
        <p:sp>
          <p:nvSpPr>
            <p:cNvPr id="154" name="AutoShape 17"/>
            <p:cNvSpPr/>
            <p:nvPr/>
          </p:nvSpPr>
          <p:spPr>
            <a:xfrm>
              <a:off x="5867280" y="838080"/>
              <a:ext cx="2362320" cy="11430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5867280" y="8380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２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擇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類別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19"/>
          <p:cNvSpPr/>
          <p:nvPr/>
        </p:nvSpPr>
        <p:spPr>
          <a:xfrm>
            <a:off x="2590920" y="990720"/>
            <a:ext cx="1752480" cy="12952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4"/>
          <p:cNvSpPr/>
          <p:nvPr/>
        </p:nvSpPr>
        <p:spPr>
          <a:xfrm>
            <a:off x="0" y="4343400"/>
            <a:ext cx="1219320" cy="228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0" y="0"/>
            <a:ext cx="15238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</a:t>
            </a: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製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7"/>
          <p:cNvSpPr/>
          <p:nvPr/>
        </p:nvSpPr>
        <p:spPr>
          <a:xfrm>
            <a:off x="0" y="0"/>
            <a:ext cx="1219320" cy="1981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產生報告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161" name="Oval 15"/>
          <p:cNvSpPr/>
          <p:nvPr/>
        </p:nvSpPr>
        <p:spPr>
          <a:xfrm>
            <a:off x="1295280" y="1600200"/>
            <a:ext cx="68580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0"/>
          <p:cNvGrpSpPr/>
          <p:nvPr/>
        </p:nvGrpSpPr>
        <p:grpSpPr>
          <a:xfrm>
            <a:off x="5334120" y="533520"/>
            <a:ext cx="2819160" cy="1923480"/>
            <a:chOff x="5334120" y="533520"/>
            <a:chExt cx="2819160" cy="1923480"/>
          </a:xfrm>
        </p:grpSpPr>
        <p:sp>
          <p:nvSpPr>
            <p:cNvPr id="163" name="AutoShape 21"/>
            <p:cNvSpPr/>
            <p:nvPr/>
          </p:nvSpPr>
          <p:spPr>
            <a:xfrm>
              <a:off x="5334120" y="533520"/>
              <a:ext cx="2819160" cy="19234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2"/>
            <p:cNvSpPr/>
            <p:nvPr/>
          </p:nvSpPr>
          <p:spPr>
            <a:xfrm>
              <a:off x="5334120" y="533520"/>
              <a:ext cx="2819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３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擇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語言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４步：按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搜尋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23"/>
          <p:cNvSpPr/>
          <p:nvPr/>
        </p:nvSpPr>
        <p:spPr>
          <a:xfrm>
            <a:off x="2590920" y="1219320"/>
            <a:ext cx="1752480" cy="30456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0" y="4343400"/>
            <a:ext cx="1219320" cy="228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9"/>
          <p:cNvSpPr/>
          <p:nvPr/>
        </p:nvSpPr>
        <p:spPr>
          <a:xfrm>
            <a:off x="0" y="0"/>
            <a:ext cx="15238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</a:t>
            </a: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製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3"/>
          <p:cNvSpPr/>
          <p:nvPr/>
        </p:nvSpPr>
        <p:spPr>
          <a:xfrm>
            <a:off x="0" y="0"/>
            <a:ext cx="1219320" cy="1981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產生報告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grpSp>
        <p:nvGrpSpPr>
          <p:cNvPr id="170" name="Group 22"/>
          <p:cNvGrpSpPr/>
          <p:nvPr/>
        </p:nvGrpSpPr>
        <p:grpSpPr>
          <a:xfrm>
            <a:off x="4419720" y="4876920"/>
            <a:ext cx="2819160" cy="1238040"/>
            <a:chOff x="4419720" y="4876920"/>
            <a:chExt cx="2819160" cy="1238040"/>
          </a:xfrm>
        </p:grpSpPr>
        <p:sp>
          <p:nvSpPr>
            <p:cNvPr id="171" name="AutoShape 23"/>
            <p:cNvSpPr/>
            <p:nvPr/>
          </p:nvSpPr>
          <p:spPr>
            <a:xfrm>
              <a:off x="4419720" y="4876920"/>
              <a:ext cx="2819160" cy="12380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4"/>
            <p:cNvSpPr/>
            <p:nvPr/>
          </p:nvSpPr>
          <p:spPr>
            <a:xfrm>
              <a:off x="4419720" y="4876920"/>
              <a:ext cx="28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５步：按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名稱（編號）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的超連結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25"/>
          <p:cNvSpPr/>
          <p:nvPr/>
        </p:nvSpPr>
        <p:spPr>
          <a:xfrm>
            <a:off x="1295280" y="4114800"/>
            <a:ext cx="2210040" cy="2286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4"/>
          <p:cNvSpPr/>
          <p:nvPr/>
        </p:nvSpPr>
        <p:spPr>
          <a:xfrm>
            <a:off x="0" y="4343400"/>
            <a:ext cx="1219320" cy="228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5"/>
          <p:cNvSpPr/>
          <p:nvPr/>
        </p:nvSpPr>
        <p:spPr>
          <a:xfrm>
            <a:off x="0" y="0"/>
            <a:ext cx="15238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</a:t>
            </a: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製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8"/>
          <p:cNvSpPr/>
          <p:nvPr/>
        </p:nvSpPr>
        <p:spPr>
          <a:xfrm>
            <a:off x="0" y="0"/>
            <a:ext cx="1219320" cy="1981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產生報告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4648320" y="5105520"/>
            <a:ext cx="4267080" cy="1314360"/>
            <a:chOff x="4648320" y="5105520"/>
            <a:chExt cx="4267080" cy="1314360"/>
          </a:xfrm>
        </p:grpSpPr>
        <p:sp>
          <p:nvSpPr>
            <p:cNvPr id="179" name="AutoShape 11"/>
            <p:cNvSpPr/>
            <p:nvPr/>
          </p:nvSpPr>
          <p:spPr>
            <a:xfrm>
              <a:off x="4648320" y="5105520"/>
              <a:ext cx="4267080" cy="13143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4648320" y="5105520"/>
              <a:ext cx="426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６步：按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系統提供範本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超連結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13"/>
          <p:cNvSpPr/>
          <p:nvPr/>
        </p:nvSpPr>
        <p:spPr>
          <a:xfrm>
            <a:off x="1600200" y="4495680"/>
            <a:ext cx="1143000" cy="2286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0" y="4343400"/>
            <a:ext cx="1219320" cy="228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0"/>
          <p:cNvSpPr/>
          <p:nvPr/>
        </p:nvSpPr>
        <p:spPr>
          <a:xfrm>
            <a:off x="0" y="0"/>
            <a:ext cx="15238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</a:t>
            </a: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製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5"/>
          <p:cNvSpPr/>
          <p:nvPr/>
        </p:nvSpPr>
        <p:spPr>
          <a:xfrm>
            <a:off x="0" y="0"/>
            <a:ext cx="1219320" cy="1981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產生報告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grpSp>
        <p:nvGrpSpPr>
          <p:cNvPr id="186" name="Group 7"/>
          <p:cNvGrpSpPr/>
          <p:nvPr/>
        </p:nvGrpSpPr>
        <p:grpSpPr>
          <a:xfrm>
            <a:off x="3124080" y="4114800"/>
            <a:ext cx="2210040" cy="1371600"/>
            <a:chOff x="3124080" y="4114800"/>
            <a:chExt cx="2210040" cy="1371600"/>
          </a:xfrm>
        </p:grpSpPr>
        <p:sp>
          <p:nvSpPr>
            <p:cNvPr id="187" name="AutoShape 8"/>
            <p:cNvSpPr/>
            <p:nvPr/>
          </p:nvSpPr>
          <p:spPr>
            <a:xfrm>
              <a:off x="3124080" y="4114800"/>
              <a:ext cx="2210040" cy="1371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3124080" y="4114800"/>
              <a:ext cx="2210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７步：輸入列印報告準則 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10"/>
          <p:cNvSpPr/>
          <p:nvPr/>
        </p:nvSpPr>
        <p:spPr>
          <a:xfrm>
            <a:off x="1219320" y="1066680"/>
            <a:ext cx="4952880" cy="175284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0" y="4343400"/>
            <a:ext cx="1219320" cy="228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0" y="0"/>
            <a:ext cx="15238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</a:t>
            </a: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製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1219320" cy="1981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產生報告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1295280" y="1066680"/>
            <a:ext cx="4953240" cy="175284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0" y="4343400"/>
            <a:ext cx="1219320" cy="228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219320" y="2819520"/>
            <a:ext cx="1066680" cy="30456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1"/>
          <p:cNvGrpSpPr/>
          <p:nvPr/>
        </p:nvGrpSpPr>
        <p:grpSpPr>
          <a:xfrm>
            <a:off x="5105520" y="0"/>
            <a:ext cx="4038480" cy="2285640"/>
            <a:chOff x="5105520" y="0"/>
            <a:chExt cx="4038480" cy="2285640"/>
          </a:xfrm>
        </p:grpSpPr>
        <p:sp>
          <p:nvSpPr>
            <p:cNvPr id="198" name="AutoShape 12"/>
            <p:cNvSpPr/>
            <p:nvPr/>
          </p:nvSpPr>
          <p:spPr>
            <a:xfrm>
              <a:off x="5105520" y="0"/>
              <a:ext cx="4038480" cy="22856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3"/>
            <p:cNvSpPr/>
            <p:nvPr/>
          </p:nvSpPr>
          <p:spPr>
            <a:xfrm>
              <a:off x="5105520" y="0"/>
              <a:ext cx="40384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產製報告的兩種方法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方法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１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新開啟的預覽視窗中產製報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方法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２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：在報告管理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-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中產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製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並儲存報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4"/>
          <p:cNvGrpSpPr/>
          <p:nvPr/>
        </p:nvGrpSpPr>
        <p:grpSpPr>
          <a:xfrm>
            <a:off x="5791320" y="4114800"/>
            <a:ext cx="2971800" cy="2057040"/>
            <a:chOff x="5791320" y="4114800"/>
            <a:chExt cx="2971800" cy="2057040"/>
          </a:xfrm>
        </p:grpSpPr>
        <p:sp>
          <p:nvSpPr>
            <p:cNvPr id="201" name="AutoShape 15"/>
            <p:cNvSpPr/>
            <p:nvPr/>
          </p:nvSpPr>
          <p:spPr>
            <a:xfrm>
              <a:off x="5791320" y="4114800"/>
              <a:ext cx="2971800" cy="20570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6"/>
            <p:cNvSpPr/>
            <p:nvPr/>
          </p:nvSpPr>
          <p:spPr>
            <a:xfrm>
              <a:off x="5791320" y="4114800"/>
              <a:ext cx="2971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方法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１：在新開啟的預覽視窗中產製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８ａ步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：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預覽及列印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7"/>
          <p:cNvSpPr/>
          <p:nvPr/>
        </p:nvSpPr>
        <p:spPr>
          <a:xfrm>
            <a:off x="0" y="0"/>
            <a:ext cx="15238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</a:t>
            </a: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製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06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產生報告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grpSp>
        <p:nvGrpSpPr>
          <p:cNvPr id="206" name="Group 2056"/>
          <p:cNvGrpSpPr/>
          <p:nvPr/>
        </p:nvGrpSpPr>
        <p:grpSpPr>
          <a:xfrm>
            <a:off x="4648320" y="4800600"/>
            <a:ext cx="4114800" cy="1676520"/>
            <a:chOff x="4648320" y="4800600"/>
            <a:chExt cx="4114800" cy="1676520"/>
          </a:xfrm>
        </p:grpSpPr>
        <p:sp>
          <p:nvSpPr>
            <p:cNvPr id="207" name="AutoShape 2057"/>
            <p:cNvSpPr/>
            <p:nvPr/>
          </p:nvSpPr>
          <p:spPr>
            <a:xfrm>
              <a:off x="4648320" y="4800600"/>
              <a:ext cx="4114800" cy="16765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058"/>
            <p:cNvSpPr/>
            <p:nvPr/>
          </p:nvSpPr>
          <p:spPr>
            <a:xfrm>
              <a:off x="4648320" y="4800600"/>
              <a:ext cx="4114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方法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１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新開啟的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預覽視窗中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產製報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８ｂ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將報告加入本機列印佇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列或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從新開啟的視窗儲存報告到本機硬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Oval 2059"/>
          <p:cNvSpPr/>
          <p:nvPr/>
        </p:nvSpPr>
        <p:spPr>
          <a:xfrm>
            <a:off x="762120" y="838080"/>
            <a:ext cx="457200" cy="38124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60"/>
          <p:cNvSpPr/>
          <p:nvPr/>
        </p:nvSpPr>
        <p:spPr>
          <a:xfrm>
            <a:off x="0" y="0"/>
            <a:ext cx="15238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</a:t>
            </a: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製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6"/>
          <p:cNvSpPr/>
          <p:nvPr/>
        </p:nvSpPr>
        <p:spPr>
          <a:xfrm>
            <a:off x="0" y="0"/>
            <a:ext cx="1219320" cy="1981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6629040"/>
            <a:ext cx="29718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產生報告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grpSp>
        <p:nvGrpSpPr>
          <p:cNvPr id="213" name="Group 7"/>
          <p:cNvGrpSpPr/>
          <p:nvPr/>
        </p:nvGrpSpPr>
        <p:grpSpPr>
          <a:xfrm>
            <a:off x="1676520" y="4114800"/>
            <a:ext cx="2971800" cy="2133360"/>
            <a:chOff x="1676520" y="4114800"/>
            <a:chExt cx="2971800" cy="2133360"/>
          </a:xfrm>
        </p:grpSpPr>
        <p:sp>
          <p:nvSpPr>
            <p:cNvPr id="214" name="AutoShape 8"/>
            <p:cNvSpPr/>
            <p:nvPr/>
          </p:nvSpPr>
          <p:spPr>
            <a:xfrm>
              <a:off x="1676520" y="4114800"/>
              <a:ext cx="2971800" cy="21333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1676520" y="4114800"/>
              <a:ext cx="2971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方法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２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：在報告管理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-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中產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製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並儲存報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８ａ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按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存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檔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ectangle 10"/>
          <p:cNvSpPr/>
          <p:nvPr/>
        </p:nvSpPr>
        <p:spPr>
          <a:xfrm>
            <a:off x="1295280" y="1295280"/>
            <a:ext cx="5105520" cy="152424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1"/>
          <p:cNvSpPr/>
          <p:nvPr/>
        </p:nvSpPr>
        <p:spPr>
          <a:xfrm>
            <a:off x="2133720" y="2819520"/>
            <a:ext cx="838080" cy="30456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0" y="4343400"/>
            <a:ext cx="1219320" cy="228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0" y="0"/>
            <a:ext cx="15238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</a:t>
            </a: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製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50840" y="53352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宋体"/>
              </a:rPr>
              <a:t>職員成本 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宋体"/>
              </a:rPr>
              <a:t>- </a:t>
            </a:r>
            <a:r>
              <a:rPr b="1" lang="zh-TW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報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143000" y="1523880"/>
            <a:ext cx="7315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職員成本報告為用戶提供職員成本的相關資料，便於記錄及管理之用。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教職員成本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報告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包括以下六個類別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所有類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FSC 1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–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傳票及其他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例如強積金付款通知書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，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薪酬傳票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/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公積金傳票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，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已過帳薪酬傳票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/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公積金傳票列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FSC 2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–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薪酬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例如與教職員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/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教職員調配模組界面記錄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，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糧單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，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薪酬項目資料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，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薪酬驗證報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FSC 3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–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公積金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例如補助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/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津貼學校公積金登記冊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，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職業退休公積金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/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強積金登記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FSC 4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–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成本分配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例如工作計劃所需時間報表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，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職員成本統制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FSC 5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–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年度帳目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例如非教職員薪金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，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教職員薪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FSC 6 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–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稅務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例如填報稅表之薪酬匯總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1"/>
          <p:cNvSpPr/>
          <p:nvPr/>
        </p:nvSpPr>
        <p:spPr>
          <a:xfrm>
            <a:off x="0" y="0"/>
            <a:ext cx="1219320" cy="1981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6629040"/>
            <a:ext cx="3048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產生報告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grpSp>
        <p:nvGrpSpPr>
          <p:cNvPr id="222" name="Group 5"/>
          <p:cNvGrpSpPr/>
          <p:nvPr/>
        </p:nvGrpSpPr>
        <p:grpSpPr>
          <a:xfrm>
            <a:off x="2133720" y="914400"/>
            <a:ext cx="3200400" cy="2133360"/>
            <a:chOff x="2133720" y="914400"/>
            <a:chExt cx="3200400" cy="2133360"/>
          </a:xfrm>
        </p:grpSpPr>
        <p:sp>
          <p:nvSpPr>
            <p:cNvPr id="223" name="AutoShape 6"/>
            <p:cNvSpPr/>
            <p:nvPr/>
          </p:nvSpPr>
          <p:spPr>
            <a:xfrm>
              <a:off x="2133720" y="914400"/>
              <a:ext cx="3200400" cy="21333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7"/>
            <p:cNvSpPr/>
            <p:nvPr/>
          </p:nvSpPr>
          <p:spPr>
            <a:xfrm>
              <a:off x="2133720" y="914400"/>
              <a:ext cx="320040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方法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２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：在報告管理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-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中產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製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並儲存報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８ｂ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在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新開啟的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對話方塊中輸入報告説明並按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確定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8"/>
          <p:cNvSpPr/>
          <p:nvPr/>
        </p:nvSpPr>
        <p:spPr>
          <a:xfrm>
            <a:off x="2286000" y="3581280"/>
            <a:ext cx="4267080" cy="4572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0" y="4343400"/>
            <a:ext cx="1219320" cy="228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406224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17"/>
          <p:cNvGraphicFramePr/>
          <p:nvPr/>
        </p:nvGraphicFramePr>
        <p:xfrm>
          <a:off x="6114960" y="3162240"/>
          <a:ext cx="209520" cy="1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4960" y="3162240"/>
                    <a:ext cx="209520" cy="1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19"/>
          <p:cNvGraphicFramePr/>
          <p:nvPr/>
        </p:nvGraphicFramePr>
        <p:xfrm>
          <a:off x="6039000" y="3419640"/>
          <a:ext cx="374400" cy="10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1" name="Object 1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39000" y="3419640"/>
                    <a:ext cx="374400" cy="10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Oval 9"/>
          <p:cNvSpPr/>
          <p:nvPr/>
        </p:nvSpPr>
        <p:spPr>
          <a:xfrm>
            <a:off x="5638680" y="2971800"/>
            <a:ext cx="1067040" cy="45720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0"/>
          <p:cNvSpPr/>
          <p:nvPr/>
        </p:nvSpPr>
        <p:spPr>
          <a:xfrm>
            <a:off x="0" y="0"/>
            <a:ext cx="15238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</a:t>
            </a: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製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產生報告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5257800" y="4037760"/>
            <a:ext cx="3581280" cy="1933560"/>
          </a:xfrm>
          <a:prstGeom prst="flowChartDocumen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方法</a:t>
            </a: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２</a:t>
            </a: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：在報告管理 </a:t>
            </a: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- </a:t>
            </a: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存庫中產</a:t>
            </a: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製</a:t>
            </a: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並儲存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報告</a:t>
            </a: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會在</a:t>
            </a:r>
            <a:r>
              <a:rPr b="1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報告管理 </a:t>
            </a:r>
            <a:r>
              <a:rPr b="1" lang="zh-CN" sz="1600" spc="-1" strike="noStrike">
                <a:solidFill>
                  <a:srgbClr val="ffffff"/>
                </a:solidFill>
                <a:latin typeface="Trebuchet MS"/>
                <a:ea typeface="新細明體"/>
              </a:rPr>
              <a:t>—</a:t>
            </a:r>
            <a:r>
              <a:rPr b="1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 存庫</a:t>
            </a: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中產</a:t>
            </a: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製</a:t>
            </a: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並儲存</a:t>
            </a: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第</a:t>
            </a: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８ｃ</a:t>
            </a: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步</a:t>
            </a:r>
            <a:r>
              <a:rPr b="0" lang="en-US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：</a:t>
            </a: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用戶可按</a:t>
            </a: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超</a:t>
            </a: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連結</a:t>
            </a: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以接連至報告存庫並下載報告</a:t>
            </a: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，或稍後</a:t>
            </a: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在左邊項目選單中按 </a:t>
            </a:r>
            <a:r>
              <a:rPr b="1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[</a:t>
            </a:r>
            <a:r>
              <a:rPr b="1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報告管理</a:t>
            </a:r>
            <a:r>
              <a:rPr b="1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]</a:t>
            </a: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 </a:t>
            </a:r>
            <a:r>
              <a:rPr b="1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[</a:t>
            </a:r>
            <a:r>
              <a:rPr b="1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存庫</a:t>
            </a:r>
            <a:r>
              <a:rPr b="1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19320" y="609480"/>
            <a:ext cx="3581280" cy="4572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0" y="0"/>
            <a:ext cx="1219320" cy="1981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0" y="4343400"/>
            <a:ext cx="1219320" cy="228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0" y="0"/>
            <a:ext cx="15238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</a:t>
            </a: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製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228132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655272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產生報告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7010280" y="498240"/>
            <a:ext cx="1905120" cy="722520"/>
          </a:xfrm>
          <a:prstGeom prst="flowChartDocumen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第８ｄ步：</a:t>
            </a: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按 </a:t>
            </a:r>
            <a:r>
              <a:rPr b="1" lang="en-US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[</a:t>
            </a:r>
            <a:r>
              <a:rPr b="1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報告</a:t>
            </a:r>
            <a:r>
              <a:rPr b="1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名稱</a:t>
            </a:r>
            <a:r>
              <a:rPr b="1" lang="en-US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(</a:t>
            </a:r>
            <a:r>
              <a:rPr b="1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編號</a:t>
            </a:r>
            <a:r>
              <a:rPr b="1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)]</a:t>
            </a: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超</a:t>
            </a: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連結下載</a:t>
            </a: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報告</a:t>
            </a: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1523880" y="3809880"/>
            <a:ext cx="2057400" cy="38124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0"/>
            <a:ext cx="1219320" cy="1981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4343400"/>
            <a:ext cx="1219320" cy="228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9"/>
          <p:cNvGrpSpPr/>
          <p:nvPr/>
        </p:nvGrpSpPr>
        <p:grpSpPr>
          <a:xfrm>
            <a:off x="7543800" y="5029200"/>
            <a:ext cx="1447560" cy="1447920"/>
            <a:chOff x="7543800" y="5029200"/>
            <a:chExt cx="1447560" cy="1447920"/>
          </a:xfrm>
        </p:grpSpPr>
        <p:sp>
          <p:nvSpPr>
            <p:cNvPr id="247" name="AutoShape 10"/>
            <p:cNvSpPr/>
            <p:nvPr/>
          </p:nvSpPr>
          <p:spPr>
            <a:xfrm flipV="1">
              <a:off x="7626240" y="5029200"/>
              <a:ext cx="1295280" cy="1447920"/>
            </a:xfrm>
            <a:prstGeom prst="flowChartOffpageConnector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1"/>
            <p:cNvSpPr/>
            <p:nvPr/>
          </p:nvSpPr>
          <p:spPr>
            <a:xfrm>
              <a:off x="7543800" y="503892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按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ESCA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返回主目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2"/>
          <p:cNvSpPr/>
          <p:nvPr/>
        </p:nvSpPr>
        <p:spPr>
          <a:xfrm>
            <a:off x="0" y="0"/>
            <a:ext cx="15238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</a:t>
            </a: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製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新細明體"/>
              </a:rPr>
              <a:t>傳票及其他</a:t>
            </a:r>
            <a:endParaRPr b="0" lang="en-US" sz="16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7010280" y="774720"/>
            <a:ext cx="1676520" cy="1054080"/>
          </a:xfrm>
          <a:prstGeom prst="flowChartDocumen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傳票及其他類別</a:t>
            </a: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新細明體"/>
              </a:rPr>
              <a:t>薪酬</a:t>
            </a:r>
            <a:endParaRPr b="0" lang="en-US" sz="16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7010280" y="774720"/>
            <a:ext cx="1676520" cy="1054080"/>
          </a:xfrm>
          <a:prstGeom prst="flowChartDocumen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薪酬類別</a:t>
            </a: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新細明體"/>
              </a:rPr>
              <a:t>公積金</a:t>
            </a:r>
            <a:endParaRPr b="0" lang="en-US" sz="16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7010280" y="774720"/>
            <a:ext cx="1676520" cy="1054080"/>
          </a:xfrm>
          <a:prstGeom prst="flowChartDocumen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公積金類別</a:t>
            </a: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新細明體"/>
              </a:rPr>
              <a:t>成本分配</a:t>
            </a:r>
            <a:endParaRPr b="0" lang="en-US" sz="16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7010280" y="774720"/>
            <a:ext cx="1676520" cy="1054080"/>
          </a:xfrm>
          <a:prstGeom prst="flowChartDocumen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成本分配類別</a:t>
            </a: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新細明體"/>
              </a:rPr>
              <a:t>周</a:t>
            </a:r>
            <a:r>
              <a:rPr b="0" lang="zh-CN" sz="1600" spc="-1" strike="noStrike">
                <a:solidFill>
                  <a:srgbClr val="ffffff"/>
                </a:solidFill>
                <a:latin typeface="新細明體"/>
              </a:rPr>
              <a:t>年帳目</a:t>
            </a:r>
            <a:endParaRPr b="0" lang="en-US" sz="16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7010280" y="1447920"/>
            <a:ext cx="1676520" cy="1054080"/>
          </a:xfrm>
          <a:prstGeom prst="flowChartDocumen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周</a:t>
            </a: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年帳目類別</a:t>
            </a: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新細明體"/>
              </a:rPr>
              <a:t>稅務</a:t>
            </a:r>
            <a:endParaRPr b="0" lang="en-US" sz="16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7010280" y="774720"/>
            <a:ext cx="1676520" cy="1054080"/>
          </a:xfrm>
          <a:prstGeom prst="flowChartDocumen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稅務類別</a:t>
            </a: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026"/>
          <p:cNvSpPr/>
          <p:nvPr/>
        </p:nvSpPr>
        <p:spPr>
          <a:xfrm>
            <a:off x="1050840" y="53352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宋体"/>
              </a:rPr>
              <a:t>職員成本 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宋体"/>
              </a:rPr>
              <a:t>- </a:t>
            </a:r>
            <a:r>
              <a:rPr b="1" lang="zh-TW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報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29"/>
          <p:cNvSpPr/>
          <p:nvPr/>
        </p:nvSpPr>
        <p:spPr>
          <a:xfrm>
            <a:off x="1143000" y="1523880"/>
            <a:ext cx="731520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以下報告只收集已過帳交易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津貼學校每月薪酬結算表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SC020-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每月薪金統制表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SC023-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填報稅表之薪酬匯總表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SC013-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已過帳薪酬傳票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/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公積金傳票列表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SC014-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工作計劃所需時間報表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依工作計劃代碼分類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) (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SC010A-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工作計劃所需時間報表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依職員代碼分類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) (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SC010B-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非教職員薪金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SC019-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教職員薪金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SC018-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職員成本統制表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依帳目代碼分類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) (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SC024B-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職員成本統制表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(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依工作計劃代碼分類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) (</a:t>
            </a:r>
            <a:r>
              <a:rPr b="0" lang="en-GB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R-FSC024A-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7:55:27Z</dcterms:created>
  <dc:creator>Valued Sony Customer</dc:creator>
  <dc:description/>
  <dc:language>en-US</dc:language>
  <cp:lastModifiedBy>LOCAL USERS</cp:lastModifiedBy>
  <dcterms:modified xsi:type="dcterms:W3CDTF">2014-12-11T08:28:54Z</dcterms:modified>
  <cp:revision>315</cp:revision>
  <dc:subject/>
  <dc:title>School Management</dc:title>
</cp:coreProperties>
</file>